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0F2-FCBF-4261-BA6B-3FD76318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7D6-CA73-4FC1-AECF-7D628C57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092-23C1-4260-A67B-66A0C33A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274-75DD-4AF5-8379-CE17557F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D8E4-1999-4062-B531-F1B7B627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EEF0-8FA4-4258-BF28-CC763491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5F61-5BF4-448B-8389-1DE35D7B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01D4-2979-4EA5-8935-8AA2FB68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9378-57CE-4F8E-9C84-A719F0FD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1B16-6F88-46B5-976F-30910A95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698F-C6A2-4E69-B832-319769E2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CAB-D6F7-43DA-8B56-9D00E75B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63EA-27F7-46BF-A35E-F0A9A69B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5219-F5B8-4E51-B57D-9B254D8F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E444-3F49-4F3D-885A-DCAE19D4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CBFC-C063-4003-BF08-C23BB66F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4616-D269-4767-A357-A0D24DAA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414-F97D-477E-95CC-5229B8E8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39F-07B1-40E4-A8BD-EBD0A097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05C-D516-41EF-9929-0E066F4A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9A8-35E3-4508-9662-F869F012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612-B65A-40DD-9086-FFC49940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F99-7217-4DB8-8F46-AF207884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A04-5B8D-47F0-8449-8ED3B3C6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C3F2-61CD-4901-BDD0-E3FA46C5229F}" type="slidenum"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8385-7B67-4CBC-A061-192C5988D800}" type="slidenum"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a566e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a566e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a566e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672080" cy="3067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838080" y="1523880"/>
            <a:ext cx="5181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wton's Law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867280"/>
            <a:ext cx="5181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Linda L. Smith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NASA Astrophysics Educator Ambassador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467000"/>
            <a:ext cx="79246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Figure Skater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42670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To begin moving,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A figure skater must apply a force using her skates.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Once in motion,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She’ll continue to glide along the ice in a straight line for a long time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Unless she applies another force.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0292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Tug of War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When each end of a rope is pulled,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the rope will move in the direction of whoever is pulling harder</a:t>
            </a:r>
            <a:br>
              <a:rPr sz="1900"/>
            </a:b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 whoever is applying more force.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In this case, the magnitude or strength of A (on the right)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is greater than that of B (on the left),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so the rope accelerates to the right.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772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Snowboarder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62160" y="167616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 snowboarder experiences a force due to gravity which pulls her down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She will move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in a straight line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unless she applies </a:t>
            </a:r>
            <a:br>
              <a:rPr sz="2600"/>
            </a:b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 force to the board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changing direction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297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Train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 train is a very massive object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nd therefore has a lot of inertia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Once in motion, it is very difficult to stop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requiring a very large force to slow it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4777"/>
          <a:stretch/>
        </p:blipFill>
        <p:spPr>
          <a:xfrm>
            <a:off x="914400" y="1523880"/>
            <a:ext cx="7315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Jogger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9000" y="1752120"/>
            <a:ext cx="5562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 jogger experiences many forces while running: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Gravity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The push of her feet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Friction of her shoes on the ground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ir resistance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Her legs, together with the friction of her shoes, overcomes her inertia to propel her forward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60028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ar Hitting a Wall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41907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A car rolling down a hill is being moved by the force of gravity.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When the car hits the wall, the greater inertia of the wall stops it.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But anything not attached to the car will still move forward,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So the man running after the car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will lose his coffee, his lunch, and his briefcase.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437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1:23:52Z</dcterms:created>
  <dc:creator>Linda L. Smith</dc:creator>
  <dc:description/>
  <cp:keywords/>
  <dc:language>en-US</dc:language>
  <cp:lastModifiedBy>Linda L. Smith</cp:lastModifiedBy>
  <dcterms:modified xsi:type="dcterms:W3CDTF">2008-07-06T01:57:04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51033</vt:lpwstr>
  </property>
</Properties>
</file>